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12193588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22E4-F080-46D3-956A-73B5AF110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A479-1FA1-4707-A1BD-79DC7D12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8431-E629-4F8E-A50B-C8059814B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EC23-AB27-4191-B203-66CAFE8E8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9E35-ED58-454D-A12D-8ACF9BA7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F71C-0ECF-4146-92E5-ECE95073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5061-72BA-4451-804D-A4655D93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6177-84E4-4761-B82F-1232843C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4240-DD93-4391-8295-1ADD7D21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C902-5963-4663-A1C1-A0C0D145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4422-CE39-4081-90E3-52C90D0E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B3ED-FD59-42DA-B592-40DB04DF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BA18-6D63-43D9-96CB-B98B505352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 rot="20700000">
            <a:off x="10217160" y="-601560"/>
            <a:ext cx="2421000" cy="298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2"/>
          <a:stretch/>
        </p:blipFill>
        <p:spPr>
          <a:xfrm>
            <a:off x="10377360" y="139680"/>
            <a:ext cx="3241800" cy="277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10745640" y="-112680"/>
            <a:ext cx="2892600" cy="227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9968040" y="108000"/>
            <a:ext cx="2695320" cy="21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4"/>
          <a:stretch/>
        </p:blipFill>
        <p:spPr>
          <a:xfrm>
            <a:off x="0" y="2004840"/>
            <a:ext cx="12192120" cy="34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9821880" y="133668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 rot="20700000">
            <a:off x="11091960" y="-12600"/>
            <a:ext cx="178740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10250640" y="54000"/>
            <a:ext cx="380196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007640" y="38160"/>
            <a:ext cx="5675400" cy="2859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 rot="20700000">
            <a:off x="10651680" y="47160"/>
            <a:ext cx="2610000" cy="2791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2"/>
          <a:stretch/>
        </p:blipFill>
        <p:spPr>
          <a:xfrm rot="12600000">
            <a:off x="9807120" y="447120"/>
            <a:ext cx="3503880" cy="184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 rot="20700000">
            <a:off x="10433160" y="137880"/>
            <a:ext cx="2741400" cy="2465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" descr=""/>
          <p:cNvPicPr/>
          <p:nvPr/>
        </p:nvPicPr>
        <p:blipFill>
          <a:blip r:embed="rId2"/>
          <a:stretch/>
        </p:blipFill>
        <p:spPr>
          <a:xfrm>
            <a:off x="10499760" y="-447840"/>
            <a:ext cx="3160800" cy="3146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1320" y="309600"/>
            <a:ext cx="82674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hodne pogojenosti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stavitev stanja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3560" y="1517400"/>
            <a:ext cx="10174320" cy="471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nkreten in natančno vnaprej opredeljen ključni dejavnik, ki je pogoj za uspešno in učinkovito doseganje posebnega cilja naložbene prednostne naloge Uni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 neposredno in resnično povezan z doseganjem tega cilja ter nanj neposredno vpl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plošn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horizontalnimi vidiki izvajanja programa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in se jih uporablja za vse evropske strukturne in investicijske skl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ematsk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tematskimi cilji in prednostnimi naložbam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kohezijske politike ter se jih uporablja v povezavi z naložbami v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specifično tematsko področ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28280" y="2006280"/>
            <a:ext cx="10093320" cy="42735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Operativni program za izvajanje Evropske kohezijske politike za obdobje 2014-2020 je relevantnih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 splošn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 in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1 tematsk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pogojenosti, ki ob oddaji programskega dokumenta niso bile v celoti izpolnjene, so bili pripravljeni akcijski načrti z jasno opredeljenimi ukrepi in rokom za izpolnitev ter odgovornimi orga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krajni rok za izpolnitev predhodnih pogojenosti j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1. 12.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Splošne pogojenosti -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39360" y="1482840"/>
            <a:ext cx="9969480" cy="48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polnjene: Boj proti diskriminaciji; Enakost spolov; Invalidnost; Državne pomoč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eizpolnjene: Javno naročanje; Okoljska zakonodaja; Statistični sistem in kazalniki rezultatov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568440" y="3382920"/>
          <a:ext cx="10155240" cy="3044880"/>
        </p:xfrm>
        <a:graphic>
          <a:graphicData uri="http://schemas.openxmlformats.org/drawingml/2006/table">
            <a:tbl>
              <a:tblPr/>
              <a:tblGrid>
                <a:gridCol w="2290680"/>
                <a:gridCol w="4011480"/>
                <a:gridCol w="1944720"/>
                <a:gridCol w="1908360"/>
              </a:tblGrid>
              <a:tr h="7038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lošne pogoje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vno naroč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praks javnega naroč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 usposabljan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ročnik za izvedbo postopkov javnih naroč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3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oljska zakonoda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obraževalni program za vsebine s področja okoljske zakon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stični sistem in kazalniki rezultat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sistema spremlj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ločitev metodologije za 2 kazalnik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526760"/>
            <a:ext cx="9682200" cy="47084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polnjene: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Ukrepi za spodbujanje soproizvodnje toplote in električne energije z visokim izkoristkom; Dostop do zaposlitve; Pobuda za zaposlovanje mladih; Socialna vključenost; Vseživljenjsko učenje; Poklicno izobražev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neizpolnjene: Raziskave in inovacije; Infrastruktura za raziskave in inovacije; Digitalna rast; Infrastruktura za omrežja naslednje generacije; Spodbujanje Akta za mala podjetja; Ukrepi za spodbujanje energetske učinkovitosti stavb; Ukrepi za spodbujanje proizvodnje in distribucije obnovljivih virov energije; Preprečevanje in obvladovanje tveganja; Vodni sektor; Promet; Železniški promet; Drugi načini prevoza; Aktivno in zdravo staranje; Zdravje; Institucionalna usposobljenost in učinkovita javna upr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 algn="just">
              <a:lnSpc>
                <a:spcPct val="115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30000" y="1472760"/>
            <a:ext cx="1014732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612720" y="1455840"/>
          <a:ext cx="10212480" cy="5259240"/>
        </p:xfrm>
        <a:graphic>
          <a:graphicData uri="http://schemas.openxmlformats.org/drawingml/2006/table">
            <a:tbl>
              <a:tblPr/>
              <a:tblGrid>
                <a:gridCol w="2637000"/>
                <a:gridCol w="3643200"/>
                <a:gridCol w="1951200"/>
                <a:gridCol w="1981080"/>
              </a:tblGrid>
              <a:tr h="6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49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zija Načrta razvoja raziskovalne infrastrukture 2011 -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talna r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informacijske družb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62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omrežja naslednje gener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razvoja širokopasovnih omrežij naslednje generacij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dbujanje Akta za mala podjet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aplikacije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pravnih pod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četek izvajanja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T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01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energetske učinkovitosti stav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za mobilizacijo naložb v obnovo stanovanjskih in poslovnih stavb, javnih in zasebni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7720" y="1348920"/>
            <a:ext cx="10117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36560" y="1349280"/>
          <a:ext cx="10245600" cy="4964040"/>
        </p:xfrm>
        <a:graphic>
          <a:graphicData uri="http://schemas.openxmlformats.org/drawingml/2006/table">
            <a:tbl>
              <a:tblPr/>
              <a:tblGrid>
                <a:gridCol w="2610000"/>
                <a:gridCol w="3693960"/>
                <a:gridCol w="1979640"/>
                <a:gridCol w="19620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proizvodnje in distribucije obnovljivih virov energ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ska obratovalna navod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rečevanje in obvladovanje tve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novih in sprememba obstoječih ocen tveganja; celovito nacionalno ocenjevanje tveganja; nacionalne strategije prilagajanja podnebnim sprememb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46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dni sek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a načrta vrze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34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prom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administrativne usposobljenosti s predlogi ukrep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9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53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elezniški 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1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gi načini prevoz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11080" y="1523520"/>
            <a:ext cx="958536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719280" y="1490760"/>
          <a:ext cx="10048680" cy="3498840"/>
        </p:xfrm>
        <a:graphic>
          <a:graphicData uri="http://schemas.openxmlformats.org/drawingml/2006/table">
            <a:tbl>
              <a:tblPr/>
              <a:tblGrid>
                <a:gridCol w="2492280"/>
                <a:gridCol w="3657600"/>
                <a:gridCol w="1971720"/>
                <a:gridCol w="1927080"/>
              </a:tblGrid>
              <a:tr h="44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4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ivno in zdravo sta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stanja starejših delavcev na slovenskem trgu d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kacija področij ukrep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eni načrt za uvajanje novih ukrep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D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5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av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olucija o nacionalnem planu zdravstvenega varst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2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ionalna usposobljenost in učinkovita javna upr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nadaljnjega razvoja slovenske javne uprave 2014 -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4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65200" y="1706040"/>
            <a:ext cx="9428400" cy="276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2900"/>
            </a:br>
            <a:br>
              <a:rPr sz="2900"/>
            </a:br>
            <a:r>
              <a:rPr b="0" i="1" lang="sl-SI" sz="14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08:55:18Z</dcterms:created>
  <dc:creator>Anja Kampuš</dc:creator>
  <dc:description/>
  <dc:language>en-US</dc:language>
  <cp:lastModifiedBy>Anja Kampus</cp:lastModifiedBy>
  <cp:lastPrinted>2015-03-10T14:20:03Z</cp:lastPrinted>
  <dcterms:modified xsi:type="dcterms:W3CDTF">2015-03-24T21:47:14Z</dcterms:modified>
  <cp:revision>43</cp:revision>
  <dc:subject/>
  <dc:title>Predhodne pogojenosti</dc:title>
</cp:coreProperties>
</file>